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22E3-DB0A-46B5-86EE-3203425E16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  who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  who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some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some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lives her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lace was a bit too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lives her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lace was a bit too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rt from the camels this place is grea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if I don’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eaves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rt from the camels this place is grea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if I don’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eaves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right temperature and no-one but no-one messes with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right temperature and no-one but no-one messes with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who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who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who eats gr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o eats gr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do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thing like a Sunday joint of huma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thing like a Sunday joint of huma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have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have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have also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have also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will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will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will also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will also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d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imal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give me a car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imal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give me a car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ED32-A40E-4886-BF87-F72DC27C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9CB9-40D1-415C-8144-F48106ED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5B73-3379-4D88-B213-58C52A85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595D-87DE-4351-BA94-9E1BA2CF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1903-0D1C-4175-B507-CEF8AF8B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C61A-ADBE-4AE8-A837-E031375A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184-73F1-48BD-AD2E-0711AC54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FAE4-73EB-4AD6-8088-FAFF70E1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DDCE-3AA7-4105-A89A-DDD3A2FF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33B6-F955-4566-A1C7-123A9EB4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43DA-5528-48C2-98C1-0AA5F640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BCEE-2AEF-46AE-B2B3-9BB2B7F0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5A65-A42E-4F22-9E70-B568202BB3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reenetpages.co.uk/hp/j.p.c/cards/sea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soton.ac.uk/~imw/jpg-Studland/5ST-Little-Sea-shore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arwick.ac.uk/staff/S.L.Hurley/images/landscapes/parrot%20fish,%20GBR%20200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elios.bto.ed.ac.uk/bto/desbiome/_vti_bin/shtml.exe/saguaro.htm/map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dia.nasaexplores.com/lessons/02-054/images/flower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692360" y="692280"/>
            <a:ext cx="6048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Ecological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Relationshi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9" name="Picture 3" descr="lion-cartoon-05"/>
          <p:cNvPicPr/>
          <p:nvPr/>
        </p:nvPicPr>
        <p:blipFill>
          <a:blip r:embed="rId1"/>
          <a:stretch/>
        </p:blipFill>
        <p:spPr>
          <a:xfrm>
            <a:off x="684360" y="3645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4"/>
          <p:cNvSpPr/>
          <p:nvPr/>
        </p:nvSpPr>
        <p:spPr>
          <a:xfrm>
            <a:off x="1763640" y="3357720"/>
            <a:ext cx="3456000" cy="1512720"/>
          </a:xfrm>
          <a:prstGeom prst="cloudCallout">
            <a:avLst>
              <a:gd name="adj1" fmla="val -43754"/>
              <a:gd name="adj2" fmla="val 5766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411280" y="3789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o eats   who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at'n'mouse"/>
          <p:cNvPicPr/>
          <p:nvPr/>
        </p:nvPicPr>
        <p:blipFill>
          <a:blip r:embed="rId2"/>
          <a:stretch/>
        </p:blipFill>
        <p:spPr>
          <a:xfrm>
            <a:off x="4788000" y="4365720"/>
            <a:ext cx="388764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7"/>
          <p:cNvSpPr/>
          <p:nvPr/>
        </p:nvSpPr>
        <p:spPr>
          <a:xfrm>
            <a:off x="7812000" y="4076640"/>
            <a:ext cx="133200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fferent organisms live in different habitats.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an you name some organisms for each of the habita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32000" y="6045120"/>
            <a:ext cx="640080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124000" y="333360"/>
            <a:ext cx="4896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se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7000"/>
            <a:ext cx="4427640" cy="2928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5ST-Little-Sea-sho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844640"/>
            <a:ext cx="4032360" cy="39006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word environment is used to describe what a habitat is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dap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parrot%2520fish,%2520GBR%25202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3402000"/>
            <a:ext cx="5545080" cy="3456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/>
          <p:cNvSpPr/>
          <p:nvPr/>
        </p:nvSpPr>
        <p:spPr>
          <a:xfrm>
            <a:off x="2340000" y="2997360"/>
            <a:ext cx="1584360" cy="934920"/>
          </a:xfrm>
          <a:prstGeom prst="wedgeRectCallout">
            <a:avLst>
              <a:gd name="adj1" fmla="val -45689"/>
              <a:gd name="adj2" fmla="val 76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a desert landscape"/>
          <p:cNvPicPr/>
          <p:nvPr/>
        </p:nvPicPr>
        <p:blipFill>
          <a:blip r:embed="rId1"/>
          <a:stretch/>
        </p:blipFill>
        <p:spPr>
          <a:xfrm>
            <a:off x="-1549440" y="260280"/>
            <a:ext cx="122410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611280" y="69228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o what lives here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1476360" y="1916280"/>
            <a:ext cx="4248000" cy="25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place was a bit too………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A Camel in Wadi Rumm"/>
          <p:cNvPicPr/>
          <p:nvPr/>
        </p:nvPicPr>
        <p:blipFill>
          <a:blip r:embed="rId1"/>
          <a:stretch/>
        </p:blipFill>
        <p:spPr>
          <a:xfrm>
            <a:off x="684360" y="1628640"/>
            <a:ext cx="7488000" cy="47228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7"/>
          <p:cNvSpPr/>
          <p:nvPr/>
        </p:nvSpPr>
        <p:spPr>
          <a:xfrm>
            <a:off x="4284720" y="1125360"/>
            <a:ext cx="2305080" cy="1944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hump stores fat, which they are able to draw upon for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have webbed feet (to prevent sinking in the sand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endure long periods without drinking - up to 17 day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ir body temperature can rise 6-8 degree Celsius before swea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saguaro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63800" y="2243160"/>
            <a:ext cx="5416560" cy="41385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6"/>
          <p:cNvSpPr/>
          <p:nvPr/>
        </p:nvSpPr>
        <p:spPr>
          <a:xfrm flipH="1">
            <a:off x="684360" y="836640"/>
            <a:ext cx="4032000" cy="1440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part from the camels this place is great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5003640" y="476280"/>
            <a:ext cx="3672000" cy="1873080"/>
          </a:xfrm>
          <a:prstGeom prst="cloudCallout">
            <a:avLst>
              <a:gd name="adj1" fmla="val -48138"/>
              <a:gd name="adj2" fmla="val 6305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at if I don’t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y leav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2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3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24000" y="0"/>
          <a:ext cx="8280360" cy="7004160"/>
        </p:xfrm>
        <a:graphic>
          <a:graphicData uri="http://schemas.openxmlformats.org/drawingml/2006/table">
            <a:tbl>
              <a:tblPr/>
              <a:tblGrid>
                <a:gridCol w="1295280"/>
                <a:gridCol w="954000"/>
                <a:gridCol w="4917960"/>
                <a:gridCol w="1113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n 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ahoma"/>
                        </a:rPr>
                        <a:t>YOU NEED TO KNOW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how an animal is suited to where it lives, i.e. fish have fins &amp; gill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e basic difference between vertebrates &amp; invertebra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plants &amp; animals can be put into different groups – classifi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nderstand how to use a key to identify an organis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e able to draw simple food chains and identify producer &amp; consume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food webs and explain how the organisms rely on each oth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environmental factors affect where organisms can liv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dict how environmental predators can affect population siz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pyramids of numbers to represent population in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scribe how energy flows through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89"/>
          <p:cNvSpPr/>
          <p:nvPr/>
        </p:nvSpPr>
        <p:spPr>
          <a:xfrm>
            <a:off x="0" y="501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artic-ic_tv_29sep05_150"/>
          <p:cNvPicPr/>
          <p:nvPr/>
        </p:nvPicPr>
        <p:blipFill>
          <a:blip r:embed="rId1"/>
          <a:stretch/>
        </p:blipFill>
        <p:spPr>
          <a:xfrm>
            <a:off x="1116000" y="1052640"/>
            <a:ext cx="7201080" cy="4968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Polar bear relaxing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/>
          <p:cNvSpPr/>
          <p:nvPr/>
        </p:nvSpPr>
        <p:spPr>
          <a:xfrm>
            <a:off x="6012000" y="836640"/>
            <a:ext cx="2808000" cy="1871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I 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 flipH="1">
            <a:off x="323280" y="189000"/>
            <a:ext cx="3600360" cy="2879640"/>
          </a:xfrm>
          <a:prstGeom prst="cloudCallout">
            <a:avLst>
              <a:gd name="adj1" fmla="val -32500"/>
              <a:gd name="adj2" fmla="val -14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’s the right temperature and no-one but no-one messes with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3" name="Picture 5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6"/>
          <p:cNvSpPr/>
          <p:nvPr/>
        </p:nvSpPr>
        <p:spPr>
          <a:xfrm>
            <a:off x="4859280" y="1052640"/>
            <a:ext cx="3456000" cy="1512720"/>
          </a:xfrm>
          <a:prstGeom prst="cloudCallout">
            <a:avLst>
              <a:gd name="adj1" fmla="val -112518"/>
              <a:gd name="adj2" fmla="val 13384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o eats who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16_grass_macro_resized"/>
          <p:cNvPicPr/>
          <p:nvPr/>
        </p:nvPicPr>
        <p:blipFill>
          <a:blip r:embed="rId1"/>
          <a:stretch/>
        </p:blipFill>
        <p:spPr>
          <a:xfrm>
            <a:off x="1619280" y="1484280"/>
            <a:ext cx="6265800" cy="47275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6"/>
          <p:cNvSpPr/>
          <p:nvPr/>
        </p:nvSpPr>
        <p:spPr>
          <a:xfrm>
            <a:off x="3132000" y="189000"/>
            <a:ext cx="4176720" cy="1295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o eats gr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sheep"/>
          <p:cNvPicPr/>
          <p:nvPr/>
        </p:nvPicPr>
        <p:blipFill>
          <a:blip r:embed="rId1"/>
          <a:stretch/>
        </p:blipFill>
        <p:spPr>
          <a:xfrm>
            <a:off x="1042920" y="1374840"/>
            <a:ext cx="6408720" cy="422100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6"/>
          <p:cNvSpPr/>
          <p:nvPr/>
        </p:nvSpPr>
        <p:spPr>
          <a:xfrm>
            <a:off x="6588000" y="476280"/>
            <a:ext cx="2160720" cy="934920"/>
          </a:xfrm>
          <a:prstGeom prst="wedgeRectCallout">
            <a:avLst>
              <a:gd name="adj1" fmla="val -43754"/>
              <a:gd name="adj2" fmla="val 171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2340000" y="620640"/>
            <a:ext cx="1798560" cy="1368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main_photo_4"/>
          <p:cNvPicPr/>
          <p:nvPr/>
        </p:nvPicPr>
        <p:blipFill>
          <a:blip r:embed="rId1"/>
          <a:stretch/>
        </p:blipFill>
        <p:spPr>
          <a:xfrm>
            <a:off x="1042920" y="669960"/>
            <a:ext cx="5113440" cy="46306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6"/>
          <p:cNvSpPr/>
          <p:nvPr/>
        </p:nvSpPr>
        <p:spPr>
          <a:xfrm>
            <a:off x="5435640" y="765000"/>
            <a:ext cx="2592360" cy="1224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79d19"/>
                  </a:solidFill>
                  <a:miter/>
                </a:ln>
                <a:solidFill>
                  <a:srgbClr val="f79d1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79d19"/>
                </a:solidFill>
                <a:miter/>
              </a:ln>
              <a:solidFill>
                <a:srgbClr val="f79d1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7" name="Picture 3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4"/>
          <p:cNvSpPr/>
          <p:nvPr/>
        </p:nvSpPr>
        <p:spPr>
          <a:xfrm>
            <a:off x="4859280" y="1052640"/>
            <a:ext cx="3816360" cy="3168360"/>
          </a:xfrm>
          <a:prstGeom prst="cloudCallout">
            <a:avLst>
              <a:gd name="adj1" fmla="val -106615"/>
              <a:gd name="adj2" fmla="val 37777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re is nothing like a Sunday joint of huma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have lear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have also learn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will lea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will also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e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abit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1547640" y="1341360"/>
            <a:ext cx="6409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00"/>
                    </a:gs>
                  </a:gsLst>
                  <a:lin ang="0"/>
                </a:gradFill>
                <a:latin typeface="Comic Sans MS"/>
              </a:rPr>
              <a:t>But Fir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00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6"/>
          <p:cNvSpPr txBox="1"/>
          <p:nvPr/>
        </p:nvSpPr>
        <p:spPr>
          <a:xfrm>
            <a:off x="2124000" y="333360"/>
            <a:ext cx="5040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an animal have??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72" name="Picture 8" descr="lion-cartoon-05"/>
          <p:cNvPicPr/>
          <p:nvPr/>
        </p:nvPicPr>
        <p:blipFill>
          <a:blip r:embed="rId1"/>
          <a:stretch/>
        </p:blipFill>
        <p:spPr>
          <a:xfrm>
            <a:off x="755640" y="3429000"/>
            <a:ext cx="2238480" cy="227484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9"/>
          <p:cNvSpPr/>
          <p:nvPr/>
        </p:nvSpPr>
        <p:spPr>
          <a:xfrm>
            <a:off x="1979640" y="2637000"/>
            <a:ext cx="2160720" cy="1225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rabbit22"/>
          <p:cNvPicPr/>
          <p:nvPr/>
        </p:nvPicPr>
        <p:blipFill>
          <a:blip r:embed="rId2"/>
          <a:stretch/>
        </p:blipFill>
        <p:spPr>
          <a:xfrm>
            <a:off x="5003640" y="3141720"/>
            <a:ext cx="2076480" cy="306864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2"/>
          <p:cNvSpPr/>
          <p:nvPr/>
        </p:nvSpPr>
        <p:spPr>
          <a:xfrm>
            <a:off x="6659640" y="2133720"/>
            <a:ext cx="2232000" cy="2016000"/>
          </a:xfrm>
          <a:prstGeom prst="cloudCallout">
            <a:avLst>
              <a:gd name="adj1" fmla="val -57254"/>
              <a:gd name="adj2" fmla="val 570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st give me a car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39528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a plant have???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78" name="Picture 10" descr="flower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205000"/>
            <a:ext cx="2733480" cy="3672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a habit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place where an organism lives is called a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7667640" y="4724280"/>
            <a:ext cx="93672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3T09:43:07Z</dcterms:created>
  <dc:creator>GR</dc:creator>
  <dc:description/>
  <dc:language>en-US</dc:language>
  <cp:lastModifiedBy>LEGION2</cp:lastModifiedBy>
  <dcterms:modified xsi:type="dcterms:W3CDTF">2015-12-14T11:21:54Z</dcterms:modified>
  <cp:revision>10</cp:revision>
  <dc:subject/>
  <dc:title>Slide 1</dc:title>
</cp:coreProperties>
</file>